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DBD7-C542-4571-84DF-8348E084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1CE9-1167-4DAB-969E-FB332C3F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1633-E6C1-46BE-82F1-13FE7E2F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5F3C-C52A-4561-A788-D71D44A8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DB01-EA25-4690-AE0D-5B6F9814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85D2-488F-4893-AE1C-732371F3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B782-D7D4-4628-B841-67A447CD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403E-30EF-4693-A4A6-AB22EDF6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D6D1-A9A7-44BE-A513-5CDC4870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F417-34A2-45A3-802E-2352338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BFFE-8CE4-4B99-8B77-C7B907E5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77A6-5804-4748-843B-66BAC77B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A39B-2523-4D3D-87FD-D9A7195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B627-78F1-48F6-920F-0259C095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0BF7-8791-4EB5-B74D-D5D55C68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D4D3-232E-4259-A4F1-83E2126E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B4A8-77B0-4907-8B52-6D26E1A1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8631-9512-4C0E-B67D-F12F49DB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0CB3-748B-45F2-B02B-17D13C35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1F57-97D1-4D77-911A-11681943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0869-D473-49FA-B8FC-B98451C9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E980-692A-46F7-AE8B-BD65529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51E0-ED2C-4FA0-81FA-4D7B684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1BCE-9460-406C-BF05-42EE1E98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7064-B76E-42DA-A86C-CD8A06A53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2EE2-68E6-46CE-A2D6-F7EE86AE85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Column Transposition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rans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2933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three tasks involved in breaking a column transposition cip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ssible rectang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correct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olum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1719-F28E-4A92-B45E-77259D526C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step in analyzing a column transposition is determining the number of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mpletely filled transposition, the number of characters is the product of the number of rows and the number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factor the number of characters to determine possible row and column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DB40-7161-48CD-971A-7F77CF87FB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Rect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tors only supply possible column sizes - test each possibility by doing a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ine of plaintext should contain about 40%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unt the vowels in each row of each possibl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best match to 40% is the best choice for the actual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ED43-F3B0-4613-89F9-E1EA81C4C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rectangle size is determined, the column order must be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is taken of all the characteristics of the plaintext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1F05-A99D-4417-ADDC-F6AE2EEE40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5A24-0C88-47B9-973F-2B4CA379E3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9619-257C-4CBC-A609-8E552833F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Size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9000" y="1464840"/>
            <a:ext cx="7627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etermine both possible column sizes and run a vowel analysis of each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1280" y="2478240"/>
            <a:ext cx="1060560" cy="4379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83160" y="2276640"/>
            <a:ext cx="5263920" cy="445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52360" y="3457440"/>
            <a:ext cx="1257480" cy="619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11B0-048A-43D7-B9CC-520F6CB9D3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920" y="26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gramming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5440" y="1336680"/>
            <a:ext cx="7240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provides a tool to aid in the ana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27000" y="2243160"/>
            <a:ext cx="11178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00480" y="2638440"/>
            <a:ext cx="6591240" cy="383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87400" y="3909960"/>
            <a:ext cx="1257480" cy="523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179E-9C32-4D25-A9A6-64E73E59E5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9T01:47:44Z</dcterms:modified>
  <cp:revision>69</cp:revision>
  <dc:subject/>
  <dc:title>CAP Cryptographic Analysis Program</dc:title>
</cp:coreProperties>
</file>